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E2E1-D1C6-4B09-B30B-5F2939A43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7656-02C4-4784-A0AA-3177629CB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C0A8-46F3-44A6-B4C8-2D6797DF7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0A77-5D32-48F6-9784-949C61618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7F01-22E1-4EAE-B01A-19717758D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D3EA-60DE-4FDC-8C0E-46860B47D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67C0-26C2-4A25-A15B-56FFD86BB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0FED-6ECA-4E95-86E1-B7C7D1722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7C90-A148-4303-98F2-BC0E18F89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7DAA-1813-4D2F-B56C-2FA04768D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5A98-4881-4D5F-AEAB-0830B53CB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7798-5D0E-4082-B5F9-2F14544F4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0B5A-3280-45A9-9C95-65148243A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75AB-43F8-4E28-AA3B-F8166A9A1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B045-F333-4B88-8592-4FA410A0B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D4C9-5989-47FC-BE91-00E64D261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E3D4-79C7-440D-A28C-936BF8C59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F857-1971-468F-8513-97D1786E4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E391-910D-4287-8E0D-7348DDD02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6AC8-B0B7-400C-9915-42561EE93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A699-C85F-4B82-BB10-7AE0EE4EC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637C-D08A-4264-B87B-46B1D6D36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C9FD-4818-4A67-8865-69AE2AD76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DB10-AA83-4B43-8D3B-D46F88E68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96EF-A708-4E8A-BD06-DB23AD31C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DA26-FC24-4B03-888B-B69E0B368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3351-6CA4-418B-9413-7A77A6E80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3AC6-42A8-47F9-A715-09073527E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12E5-2B41-47CE-929C-3E620B408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817F-8DA3-4225-A64C-369E92E7C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3690-0BFF-4991-A644-0CF35936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D16B-021D-43A3-B8D9-B8F124E0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2DBD-08B3-4922-90F7-15E647EA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9F0C-F2A1-410C-B081-E8921E1A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1F4B-93C0-40F6-91CD-6EE6662F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D547-563F-4F26-84AC-DCAD81B2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EF60-B496-4E8C-8492-AA6879D6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23BE-6DF1-4427-913C-CF9BCEDA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FA83-678F-4F2B-BB83-EC273DDB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5A48-DA08-4E37-8A99-5A422B96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FE8A-4D33-44D8-B2C6-EF911F46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D01-E7EB-4758-9E1B-592F5E87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D6BC-D30D-46D0-B3A1-37F7FD78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6F98-17CB-496A-9135-4682ECD1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6253-0062-4367-9909-340E75F7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F191-C59D-4320-8FF3-4EF0D86D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1702-9FFD-4E16-A38A-170BF61E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6EEF-17D0-486B-A80E-830AE40E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13A-9920-41A8-91E6-13E6BCFA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3E79-1F9F-4E13-8CD0-1852CADB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AED7-BB0B-4DF1-871F-C31A9232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4FE1-0FFD-433B-9399-A0233E84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D61-58C5-4E4C-B3C3-D4BCB319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A70-A705-41CA-ABB6-F3BF8859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AutoShape 3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4949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Line 4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AutoShape 6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5712"/>
                </a:gs>
                <a:gs pos="50000">
                  <a:srgbClr val="ff7518"/>
                </a:gs>
                <a:gs pos="100000">
                  <a:srgbClr val="bd5712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8D2E-9B42-4527-9B6F-ED7F94E07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AutoShape 14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762120" y="1676520"/>
            <a:ext cx="7696080" cy="1675800"/>
            <a:chOff x="762120" y="1676520"/>
            <a:chExt cx="7696080" cy="1675800"/>
          </a:xfrm>
        </p:grpSpPr>
        <p:sp>
          <p:nvSpPr>
            <p:cNvPr id="50" name="AutoShape 3"/>
            <p:cNvSpPr/>
            <p:nvPr/>
          </p:nvSpPr>
          <p:spPr>
            <a:xfrm>
              <a:off x="762120" y="1676520"/>
              <a:ext cx="7696080" cy="16758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4949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4"/>
            <p:cNvSpPr/>
            <p:nvPr/>
          </p:nvSpPr>
          <p:spPr>
            <a:xfrm>
              <a:off x="981720" y="3352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685800" y="3505320"/>
            <a:ext cx="7772400" cy="304560"/>
            <a:chOff x="685800" y="3505320"/>
            <a:chExt cx="7772400" cy="304560"/>
          </a:xfrm>
        </p:grpSpPr>
        <p:sp>
          <p:nvSpPr>
            <p:cNvPr id="53" name="AutoShape 6"/>
            <p:cNvSpPr/>
            <p:nvPr/>
          </p:nvSpPr>
          <p:spPr>
            <a:xfrm>
              <a:off x="685800" y="3505320"/>
              <a:ext cx="77724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5712"/>
                </a:gs>
                <a:gs pos="50000">
                  <a:srgbClr val="ff7518"/>
                </a:gs>
                <a:gs pos="100000">
                  <a:srgbClr val="bd5712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 flipV="1">
              <a:off x="828720" y="3522960"/>
              <a:ext cx="7496280" cy="45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7518"/>
                </a:gs>
                <a:gs pos="50000">
                  <a:srgbClr val="ffffff"/>
                </a:gs>
                <a:gs pos="100000">
                  <a:srgbClr val="ff75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AutoShape 13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4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751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751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A271-3C90-4B60-94E4-50717A3E0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7518"/>
                </a:solidFill>
                <a:latin typeface="American Typewriter"/>
              </a:rPr>
              <a:t>METRIC CONVERSION</a:t>
            </a:r>
            <a:endParaRPr b="0" lang="en-US" sz="48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2209320"/>
            <a:ext cx="274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merican Typewriter"/>
              </a:rPr>
              <a:t>How to convert within the metric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5254920" y="6607080"/>
            <a:ext cx="320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© Copyright 2003 - 2004.  M. J. Krech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3619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Let’s add the gram line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1371600" y="342900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114800" y="28195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510552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601992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701028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327672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>
            <a:off x="228600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1"/>
          <p:cNvSpPr/>
          <p:nvPr/>
        </p:nvSpPr>
        <p:spPr>
          <a:xfrm>
            <a:off x="137160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972360" y="2438280"/>
            <a:ext cx="69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1143000" y="41148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m     hm       dam   m        dm     cm      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l        hl         dal      l          dl         cl        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kg       hg       dag     g        dg         cg        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How to use this device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838080" y="2209680"/>
            <a:ext cx="792504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merican Typewrit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Look at the problem.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Look at the un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at has a number. On the device p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your pencil 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merican Typewriter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un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merican Typewrite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Move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merican Typewriter"/>
              </a:rPr>
              <a:t>new unit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, counting jumps and noticing the direction of the jum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merican Typewrite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3.  Move decimal in original number the </a:t>
            </a: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same # of spaces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and </a:t>
            </a: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in the same direction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1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389880" indent="-38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Look at the problem.  </a:t>
            </a: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56 cm = _____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Look at the unit that has a number.  </a:t>
            </a: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56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9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On the device put your pencil 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merican Typewriter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un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1219320" y="457200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3962520" y="39625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6"/>
          <p:cNvSpPr/>
          <p:nvPr/>
        </p:nvSpPr>
        <p:spPr>
          <a:xfrm>
            <a:off x="495288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7"/>
          <p:cNvSpPr/>
          <p:nvPr/>
        </p:nvSpPr>
        <p:spPr>
          <a:xfrm>
            <a:off x="586728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685800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312408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213372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121932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742320" y="358128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99072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m     hm       dam   m        dm    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cm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15" descr=""/>
          <p:cNvPicPr/>
          <p:nvPr/>
        </p:nvPicPr>
        <p:blipFill>
          <a:blip r:embed="rId1"/>
          <a:stretch/>
        </p:blipFill>
        <p:spPr>
          <a:xfrm>
            <a:off x="6019920" y="5715000"/>
            <a:ext cx="1676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3" descr=""/>
          <p:cNvPicPr/>
          <p:nvPr/>
        </p:nvPicPr>
        <p:blipFill>
          <a:blip r:embed="rId1"/>
          <a:stretch/>
        </p:blipFill>
        <p:spPr>
          <a:xfrm>
            <a:off x="5791320" y="4800600"/>
            <a:ext cx="1066680" cy="1028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1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1219320" y="403848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"/>
          <p:cNvSpPr/>
          <p:nvPr/>
        </p:nvSpPr>
        <p:spPr>
          <a:xfrm>
            <a:off x="3962520" y="342900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495288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586728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685800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312408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0"/>
          <p:cNvSpPr/>
          <p:nvPr/>
        </p:nvSpPr>
        <p:spPr>
          <a:xfrm>
            <a:off x="21337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>
            <a:off x="1219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818640" y="3048120"/>
            <a:ext cx="69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990720" y="4724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m     hm       dam   m        dm    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cm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699120" y="1981080"/>
            <a:ext cx="755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merican Typewrite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Move to new unit, counting jump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noticing the direction of the jum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2802960" y="5562720"/>
            <a:ext cx="41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One jump to the r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2" descr=""/>
          <p:cNvPicPr/>
          <p:nvPr/>
        </p:nvPicPr>
        <p:blipFill>
          <a:blip r:embed="rId2"/>
          <a:stretch/>
        </p:blipFill>
        <p:spPr>
          <a:xfrm>
            <a:off x="6934320" y="5181480"/>
            <a:ext cx="16761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1" descr=""/>
          <p:cNvPicPr/>
          <p:nvPr/>
        </p:nvPicPr>
        <p:blipFill>
          <a:blip r:embed="rId1"/>
          <a:stretch/>
        </p:blipFill>
        <p:spPr>
          <a:xfrm>
            <a:off x="3733920" y="4648320"/>
            <a:ext cx="1066680" cy="10285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1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609480" y="1828800"/>
            <a:ext cx="7925040" cy="38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merican Typewrite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Move decimal in original number the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same # of spaces and in the same direction.</a:t>
            </a:r>
            <a:r>
              <a:rPr b="0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7518"/>
              </a:buClr>
              <a:buFont typeface="American Typewrite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56 cm = _____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              </a:t>
            </a:r>
            <a:r>
              <a:rPr b="1" lang="en-US" sz="8000" spc="-1" strike="noStrike">
                <a:solidFill>
                  <a:srgbClr val="000000"/>
                </a:solidFill>
                <a:latin typeface="American Typewriter"/>
              </a:rPr>
              <a:t>56</a:t>
            </a:r>
            <a:r>
              <a:rPr b="1" lang="en-US" sz="8000" spc="-1" strike="noStrike">
                <a:solidFill>
                  <a:srgbClr val="aaaaaa"/>
                </a:solidFill>
                <a:latin typeface="American Typewriter"/>
              </a:rPr>
              <a:t>.</a:t>
            </a:r>
            <a:r>
              <a:rPr b="1" lang="en-US" sz="8000" spc="-1" strike="noStrike">
                <a:solidFill>
                  <a:srgbClr val="000000"/>
                </a:solidFill>
                <a:latin typeface="American Typewriter"/>
              </a:rPr>
              <a:t>0.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760680" y="5638680"/>
            <a:ext cx="672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Move decimal one jump to the r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Add a zero as a placehol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5805720" y="461952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One ju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to the righ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10" descr=""/>
          <p:cNvPicPr/>
          <p:nvPr/>
        </p:nvPicPr>
        <p:blipFill>
          <a:blip r:embed="rId2"/>
          <a:stretch/>
        </p:blipFill>
        <p:spPr>
          <a:xfrm rot="18555000">
            <a:off x="4952880" y="3962160"/>
            <a:ext cx="16765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1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90720" y="2514600"/>
            <a:ext cx="74674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56 cm = _____ m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7518"/>
                </a:solidFill>
                <a:latin typeface="American Typewriter"/>
              </a:rPr>
              <a:t>56cm = 560 m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2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merican Typewriter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Look at the problem.  </a:t>
            </a: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7.25 L = ____ k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Look at the unit that has a number. </a:t>
            </a: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7.25 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On the device put your pencil 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merican Typewriter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un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1219320" y="457200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3962520" y="39625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495288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>
            <a:off x="586728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"/>
          <p:cNvSpPr/>
          <p:nvPr/>
        </p:nvSpPr>
        <p:spPr>
          <a:xfrm>
            <a:off x="685800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312408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0"/>
          <p:cNvSpPr/>
          <p:nvPr/>
        </p:nvSpPr>
        <p:spPr>
          <a:xfrm>
            <a:off x="213372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1"/>
          <p:cNvSpPr/>
          <p:nvPr/>
        </p:nvSpPr>
        <p:spPr>
          <a:xfrm>
            <a:off x="1219320" y="4191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820080" y="3505320"/>
            <a:ext cx="69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917280" y="5105520"/>
            <a:ext cx="63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l        hl         dal     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   dl         cl        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17" descr=""/>
          <p:cNvPicPr/>
          <p:nvPr/>
        </p:nvPicPr>
        <p:blipFill>
          <a:blip r:embed="rId1"/>
          <a:stretch/>
        </p:blipFill>
        <p:spPr>
          <a:xfrm>
            <a:off x="3886200" y="5638680"/>
            <a:ext cx="167652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3" descr=""/>
          <p:cNvPicPr/>
          <p:nvPr/>
        </p:nvPicPr>
        <p:blipFill>
          <a:blip r:embed="rId1"/>
          <a:stretch/>
        </p:blipFill>
        <p:spPr>
          <a:xfrm>
            <a:off x="2133720" y="480060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4" descr=""/>
          <p:cNvPicPr/>
          <p:nvPr/>
        </p:nvPicPr>
        <p:blipFill>
          <a:blip r:embed="rId2"/>
          <a:stretch/>
        </p:blipFill>
        <p:spPr>
          <a:xfrm>
            <a:off x="990720" y="4800600"/>
            <a:ext cx="1143000" cy="11048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2" descr=""/>
          <p:cNvPicPr/>
          <p:nvPr/>
        </p:nvPicPr>
        <p:blipFill>
          <a:blip r:embed="rId3"/>
          <a:stretch/>
        </p:blipFill>
        <p:spPr>
          <a:xfrm>
            <a:off x="3048120" y="4724280"/>
            <a:ext cx="1143000" cy="11052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2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merican Typewriter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Move to new unit, counting jumps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noticing the direction of the jump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1295280" y="411480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4038480" y="35053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502920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594360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693432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320040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22096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12952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816840" y="304812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992520" y="4648320"/>
            <a:ext cx="63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l        hl         dal     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   dl         cl        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19"/>
          <p:cNvSpPr/>
          <p:nvPr/>
        </p:nvSpPr>
        <p:spPr>
          <a:xfrm>
            <a:off x="3447720" y="5867280"/>
            <a:ext cx="434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Three jumps to the lef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20" descr=""/>
          <p:cNvPicPr/>
          <p:nvPr/>
        </p:nvPicPr>
        <p:blipFill>
          <a:blip r:embed="rId4"/>
          <a:stretch/>
        </p:blipFill>
        <p:spPr>
          <a:xfrm>
            <a:off x="1143000" y="5715000"/>
            <a:ext cx="16765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5" descr=""/>
          <p:cNvPicPr/>
          <p:nvPr/>
        </p:nvPicPr>
        <p:blipFill>
          <a:blip r:embed="rId1"/>
          <a:stretch/>
        </p:blipFill>
        <p:spPr>
          <a:xfrm>
            <a:off x="4038480" y="4876920"/>
            <a:ext cx="762120" cy="736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6" descr=""/>
          <p:cNvPicPr/>
          <p:nvPr/>
        </p:nvPicPr>
        <p:blipFill>
          <a:blip r:embed="rId2"/>
          <a:stretch/>
        </p:blipFill>
        <p:spPr>
          <a:xfrm>
            <a:off x="3276720" y="4952880"/>
            <a:ext cx="761760" cy="736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7" descr=""/>
          <p:cNvPicPr/>
          <p:nvPr/>
        </p:nvPicPr>
        <p:blipFill>
          <a:blip r:embed="rId3"/>
          <a:stretch/>
        </p:blipFill>
        <p:spPr>
          <a:xfrm>
            <a:off x="2514600" y="4952880"/>
            <a:ext cx="762120" cy="73656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2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(3) Move decimal in original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same # of spaces and in the same      dir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7.25 L = ____ k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merican Typewriter"/>
              </a:rPr>
              <a:t>      </a:t>
            </a:r>
            <a:r>
              <a:rPr b="1" lang="en-US" sz="8000" spc="-1" strike="noStrike">
                <a:solidFill>
                  <a:srgbClr val="000000"/>
                </a:solidFill>
                <a:latin typeface="American Typewriter"/>
              </a:rPr>
              <a:t>.007</a:t>
            </a:r>
            <a:r>
              <a:rPr b="1" lang="en-US" sz="8000" spc="-1" strike="noStrike">
                <a:solidFill>
                  <a:srgbClr val="aaaaaa"/>
                </a:solidFill>
                <a:latin typeface="American Typewriter"/>
              </a:rPr>
              <a:t>.</a:t>
            </a:r>
            <a:r>
              <a:rPr b="1" lang="en-US" sz="8000" spc="-1" strike="noStrike">
                <a:solidFill>
                  <a:srgbClr val="000000"/>
                </a:solidFill>
                <a:latin typeface="American Typewriter"/>
              </a:rPr>
              <a:t>2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769320" y="5562720"/>
            <a:ext cx="780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Move decimal to the left three jum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Add two zeros as placeho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6483240" y="4267080"/>
            <a:ext cx="21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Three jump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to the lef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14" descr=""/>
          <p:cNvPicPr/>
          <p:nvPr/>
        </p:nvPicPr>
        <p:blipFill>
          <a:blip r:embed="rId4"/>
          <a:stretch/>
        </p:blipFill>
        <p:spPr>
          <a:xfrm>
            <a:off x="685800" y="4114800"/>
            <a:ext cx="147312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2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8305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         </a:t>
            </a: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7.25 L = ____ k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7518"/>
                </a:solidFill>
                <a:latin typeface="American Typewriter"/>
              </a:rPr>
              <a:t>7.25 L = .00725 k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542880" y="2678040"/>
            <a:ext cx="1843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7518"/>
                </a:solidFill>
                <a:latin typeface="American Typewriter"/>
              </a:rPr>
              <a:t>The Metric System</a:t>
            </a:r>
            <a:endParaRPr b="0" lang="en-US" sz="5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28440" y="20570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18bb"/>
                </a:solidFill>
                <a:latin typeface="American Typewriter"/>
              </a:rPr>
              <a:t>is based on sets of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04920" y="266688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8080"/>
                </a:solidFill>
                <a:latin typeface="American Typewriter"/>
              </a:rPr>
              <a:t>1 x 10 = 1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8080"/>
                </a:solidFill>
                <a:latin typeface="American Typewriter"/>
              </a:rPr>
              <a:t>10 X 10 = 1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08080"/>
                </a:solidFill>
                <a:latin typeface="American Typewriter"/>
              </a:rPr>
              <a:t>10 x 100 = 1,00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0" descr=""/>
          <p:cNvPicPr/>
          <p:nvPr/>
        </p:nvPicPr>
        <p:blipFill>
          <a:blip r:embed="rId1"/>
          <a:stretch/>
        </p:blipFill>
        <p:spPr>
          <a:xfrm rot="18898200">
            <a:off x="2819160" y="5562360"/>
            <a:ext cx="1473120" cy="6602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3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1566000" y="2057400"/>
            <a:ext cx="551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ry this problem on your 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45,000 g = ____m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6"/>
          <p:cNvSpPr/>
          <p:nvPr/>
        </p:nvSpPr>
        <p:spPr>
          <a:xfrm>
            <a:off x="1600200" y="449568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4343400" y="388620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5334120" y="4114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6248520" y="4114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7238880" y="4114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>
            <a:off x="3505320" y="4114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2514600" y="4114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1600200" y="41148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1199520" y="3429000"/>
            <a:ext cx="69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1336320" y="5029200"/>
            <a:ext cx="63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g        hg        dag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   g     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dg         cg       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9" descr=""/>
          <p:cNvPicPr/>
          <p:nvPr/>
        </p:nvPicPr>
        <p:blipFill>
          <a:blip r:embed="rId1"/>
          <a:stretch/>
        </p:blipFill>
        <p:spPr>
          <a:xfrm>
            <a:off x="5029200" y="594360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2" descr=""/>
          <p:cNvPicPr/>
          <p:nvPr/>
        </p:nvPicPr>
        <p:blipFill>
          <a:blip r:embed="rId2"/>
          <a:stretch/>
        </p:blipFill>
        <p:spPr>
          <a:xfrm>
            <a:off x="6400800" y="594360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1" descr=""/>
          <p:cNvPicPr/>
          <p:nvPr/>
        </p:nvPicPr>
        <p:blipFill>
          <a:blip r:embed="rId3"/>
          <a:stretch/>
        </p:blipFill>
        <p:spPr>
          <a:xfrm>
            <a:off x="5638680" y="594360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6" descr=""/>
          <p:cNvPicPr/>
          <p:nvPr/>
        </p:nvPicPr>
        <p:blipFill>
          <a:blip r:embed="rId4"/>
          <a:stretch/>
        </p:blipFill>
        <p:spPr>
          <a:xfrm>
            <a:off x="4038480" y="3962520"/>
            <a:ext cx="914400" cy="8823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7" descr=""/>
          <p:cNvPicPr/>
          <p:nvPr/>
        </p:nvPicPr>
        <p:blipFill>
          <a:blip r:embed="rId5"/>
          <a:stretch/>
        </p:blipFill>
        <p:spPr>
          <a:xfrm>
            <a:off x="5029200" y="3962520"/>
            <a:ext cx="914400" cy="882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8" descr=""/>
          <p:cNvPicPr/>
          <p:nvPr/>
        </p:nvPicPr>
        <p:blipFill>
          <a:blip r:embed="rId6"/>
          <a:stretch/>
        </p:blipFill>
        <p:spPr>
          <a:xfrm>
            <a:off x="6095880" y="3962520"/>
            <a:ext cx="914400" cy="882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5" descr=""/>
          <p:cNvPicPr/>
          <p:nvPr/>
        </p:nvPicPr>
        <p:blipFill>
          <a:blip r:embed="rId7"/>
          <a:stretch/>
        </p:blipFill>
        <p:spPr>
          <a:xfrm rot="18898200">
            <a:off x="2412720" y="4140000"/>
            <a:ext cx="1473120" cy="6602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3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80" name="Line 5"/>
          <p:cNvSpPr/>
          <p:nvPr/>
        </p:nvSpPr>
        <p:spPr>
          <a:xfrm>
            <a:off x="1371600" y="312408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4114800" y="251460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5105520" y="2743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6019920" y="2743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9"/>
          <p:cNvSpPr/>
          <p:nvPr/>
        </p:nvSpPr>
        <p:spPr>
          <a:xfrm>
            <a:off x="7010280" y="2743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3276720" y="2743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"/>
          <p:cNvSpPr/>
          <p:nvPr/>
        </p:nvSpPr>
        <p:spPr>
          <a:xfrm>
            <a:off x="2286000" y="2743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12"/>
          <p:cNvSpPr/>
          <p:nvPr/>
        </p:nvSpPr>
        <p:spPr>
          <a:xfrm>
            <a:off x="1371600" y="2743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970920" y="2057400"/>
            <a:ext cx="69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1109880" y="3657600"/>
            <a:ext cx="64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g        hg      dag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     g     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dg         cg       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8"/>
          <p:cNvSpPr/>
          <p:nvPr/>
        </p:nvSpPr>
        <p:spPr>
          <a:xfrm>
            <a:off x="2612880" y="4800600"/>
            <a:ext cx="46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Three jumps to the r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9"/>
          <p:cNvSpPr/>
          <p:nvPr/>
        </p:nvSpPr>
        <p:spPr>
          <a:xfrm>
            <a:off x="1447920" y="5181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merican Typewriter"/>
              </a:rPr>
              <a:t>45,000</a:t>
            </a:r>
            <a:r>
              <a:rPr b="1" lang="en-US" sz="7200" spc="-1" strike="noStrike">
                <a:solidFill>
                  <a:srgbClr val="aaaaaa"/>
                </a:solidFill>
                <a:latin typeface="American Typewriter"/>
              </a:rPr>
              <a:t>.000</a:t>
            </a:r>
            <a:r>
              <a:rPr b="1" lang="en-US" sz="7200" spc="-1" strike="noStrike">
                <a:solidFill>
                  <a:srgbClr val="000000"/>
                </a:solidFill>
                <a:latin typeface="American Typewriter"/>
              </a:rPr>
              <a:t>.</a:t>
            </a: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3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merican Typewriter"/>
              </a:rPr>
              <a:t>45,000 g =</a:t>
            </a: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 45,000,000 m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2384280" y="3733920"/>
            <a:ext cx="46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18bb"/>
                </a:solidFill>
                <a:latin typeface="American Typewriter"/>
              </a:rPr>
              <a:t>Three jumps to the righ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4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ry this problem on your 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5 cm = ____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1219320" y="411480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"/>
          <p:cNvSpPr/>
          <p:nvPr/>
        </p:nvSpPr>
        <p:spPr>
          <a:xfrm>
            <a:off x="3962520" y="35053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6"/>
          <p:cNvSpPr/>
          <p:nvPr/>
        </p:nvSpPr>
        <p:spPr>
          <a:xfrm>
            <a:off x="49528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58672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>
            <a:off x="685800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>
            <a:off x="312408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0"/>
          <p:cNvSpPr/>
          <p:nvPr/>
        </p:nvSpPr>
        <p:spPr>
          <a:xfrm>
            <a:off x="213372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1219320" y="37339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740880" y="312408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990720" y="4800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m     hm      dam    m        dm    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cm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5" descr=""/>
          <p:cNvPicPr/>
          <p:nvPr/>
        </p:nvPicPr>
        <p:blipFill>
          <a:blip r:embed="rId1"/>
          <a:stretch/>
        </p:blipFill>
        <p:spPr>
          <a:xfrm>
            <a:off x="5791320" y="5257800"/>
            <a:ext cx="16761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36" descr=""/>
          <p:cNvPicPr/>
          <p:nvPr/>
        </p:nvPicPr>
        <p:blipFill>
          <a:blip r:embed="rId1"/>
          <a:stretch/>
        </p:blipFill>
        <p:spPr>
          <a:xfrm>
            <a:off x="4876920" y="594360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7" descr=""/>
          <p:cNvPicPr/>
          <p:nvPr/>
        </p:nvPicPr>
        <p:blipFill>
          <a:blip r:embed="rId2"/>
          <a:stretch/>
        </p:blipFill>
        <p:spPr>
          <a:xfrm>
            <a:off x="4191120" y="594360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8" descr=""/>
          <p:cNvPicPr/>
          <p:nvPr/>
        </p:nvPicPr>
        <p:blipFill>
          <a:blip r:embed="rId3"/>
          <a:stretch/>
        </p:blipFill>
        <p:spPr>
          <a:xfrm>
            <a:off x="3581280" y="594360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9" descr=""/>
          <p:cNvPicPr/>
          <p:nvPr/>
        </p:nvPicPr>
        <p:blipFill>
          <a:blip r:embed="rId4"/>
          <a:stretch/>
        </p:blipFill>
        <p:spPr>
          <a:xfrm>
            <a:off x="2895480" y="594360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5" descr=""/>
          <p:cNvPicPr/>
          <p:nvPr/>
        </p:nvPicPr>
        <p:blipFill>
          <a:blip r:embed="rId5"/>
          <a:stretch/>
        </p:blipFill>
        <p:spPr>
          <a:xfrm>
            <a:off x="5410080" y="5943600"/>
            <a:ext cx="685800" cy="6620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4" descr=""/>
          <p:cNvPicPr/>
          <p:nvPr/>
        </p:nvPicPr>
        <p:blipFill>
          <a:blip r:embed="rId6"/>
          <a:stretch/>
        </p:blipFill>
        <p:spPr>
          <a:xfrm>
            <a:off x="1295280" y="3886200"/>
            <a:ext cx="990720" cy="957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3" descr=""/>
          <p:cNvPicPr/>
          <p:nvPr/>
        </p:nvPicPr>
        <p:blipFill>
          <a:blip r:embed="rId7"/>
          <a:stretch/>
        </p:blipFill>
        <p:spPr>
          <a:xfrm>
            <a:off x="2286000" y="3809880"/>
            <a:ext cx="990720" cy="9590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2" descr=""/>
          <p:cNvPicPr/>
          <p:nvPr/>
        </p:nvPicPr>
        <p:blipFill>
          <a:blip r:embed="rId8"/>
          <a:stretch/>
        </p:blipFill>
        <p:spPr>
          <a:xfrm>
            <a:off x="3276720" y="3809880"/>
            <a:ext cx="1066680" cy="1030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31" descr=""/>
          <p:cNvPicPr/>
          <p:nvPr/>
        </p:nvPicPr>
        <p:blipFill>
          <a:blip r:embed="rId9"/>
          <a:stretch/>
        </p:blipFill>
        <p:spPr>
          <a:xfrm>
            <a:off x="4343400" y="3733920"/>
            <a:ext cx="990720" cy="958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0" descr=""/>
          <p:cNvPicPr/>
          <p:nvPr/>
        </p:nvPicPr>
        <p:blipFill>
          <a:blip r:embed="rId10"/>
          <a:stretch/>
        </p:blipFill>
        <p:spPr>
          <a:xfrm>
            <a:off x="5334120" y="3657600"/>
            <a:ext cx="990360" cy="9572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4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1523880" y="289548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5"/>
          <p:cNvSpPr/>
          <p:nvPr/>
        </p:nvSpPr>
        <p:spPr>
          <a:xfrm>
            <a:off x="4267080" y="228600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6"/>
          <p:cNvSpPr/>
          <p:nvPr/>
        </p:nvSpPr>
        <p:spPr>
          <a:xfrm>
            <a:off x="5257800" y="2514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7"/>
          <p:cNvSpPr/>
          <p:nvPr/>
        </p:nvSpPr>
        <p:spPr>
          <a:xfrm>
            <a:off x="6172200" y="2514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"/>
          <p:cNvSpPr/>
          <p:nvPr/>
        </p:nvSpPr>
        <p:spPr>
          <a:xfrm>
            <a:off x="7162920" y="2514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9"/>
          <p:cNvSpPr/>
          <p:nvPr/>
        </p:nvSpPr>
        <p:spPr>
          <a:xfrm>
            <a:off x="3429000" y="2514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0"/>
          <p:cNvSpPr/>
          <p:nvPr/>
        </p:nvSpPr>
        <p:spPr>
          <a:xfrm>
            <a:off x="2438280" y="2514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1"/>
          <p:cNvSpPr/>
          <p:nvPr/>
        </p:nvSpPr>
        <p:spPr>
          <a:xfrm>
            <a:off x="1523880" y="2514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12"/>
          <p:cNvSpPr/>
          <p:nvPr/>
        </p:nvSpPr>
        <p:spPr>
          <a:xfrm>
            <a:off x="1045440" y="190512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3"/>
          <p:cNvSpPr/>
          <p:nvPr/>
        </p:nvSpPr>
        <p:spPr>
          <a:xfrm>
            <a:off x="1295280" y="3581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m     hm      dam    m        dm     </a:t>
            </a: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cm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2887560" y="190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1"/>
          <p:cNvSpPr/>
          <p:nvPr/>
        </p:nvSpPr>
        <p:spPr>
          <a:xfrm>
            <a:off x="2261880" y="464832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8"/>
                </a:solidFill>
                <a:latin typeface="American Typewriter"/>
              </a:rPr>
              <a:t>Five jumps to the lef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2"/>
          <p:cNvSpPr/>
          <p:nvPr/>
        </p:nvSpPr>
        <p:spPr>
          <a:xfrm>
            <a:off x="2590920" y="5105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merican Typewriter"/>
              </a:rPr>
              <a:t>.00005</a:t>
            </a:r>
            <a:r>
              <a:rPr b="1" lang="en-US" sz="7200" spc="-1" strike="noStrike">
                <a:solidFill>
                  <a:srgbClr val="aaaaaa"/>
                </a:solidFill>
                <a:latin typeface="American Typewriter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29" descr=""/>
          <p:cNvPicPr/>
          <p:nvPr/>
        </p:nvPicPr>
        <p:blipFill>
          <a:blip r:embed="rId11"/>
          <a:stretch/>
        </p:blipFill>
        <p:spPr>
          <a:xfrm>
            <a:off x="6400800" y="4114800"/>
            <a:ext cx="16765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 #4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165680" y="3048120"/>
            <a:ext cx="660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merican Typewriter"/>
              </a:rPr>
              <a:t>5 cm = </a:t>
            </a:r>
            <a:r>
              <a:rPr b="1" lang="en-US" sz="6000" spc="-1" strike="noStrike">
                <a:solidFill>
                  <a:srgbClr val="ff7518"/>
                </a:solidFill>
                <a:latin typeface="American Typewriter"/>
              </a:rPr>
              <a:t>.00005 k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2261880" y="487692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18bb"/>
                </a:solidFill>
                <a:latin typeface="American Typewriter"/>
              </a:rPr>
              <a:t>Five jumps to the lef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s #5-9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Solve these five problems on your own. </a:t>
            </a:r>
            <a:r>
              <a:rPr b="1" lang="en-US" sz="3200" spc="-1" strike="noStrike">
                <a:solidFill>
                  <a:srgbClr val="5918bb"/>
                </a:solidFill>
                <a:latin typeface="American Typewriter"/>
              </a:rPr>
              <a:t>Show your answers to y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You may choose to use the </a:t>
            </a:r>
            <a:r>
              <a:rPr b="1" lang="en-US" sz="3200" spc="-1" strike="noStrike">
                <a:solidFill>
                  <a:srgbClr val="ff7518"/>
                </a:solidFill>
                <a:latin typeface="American Typewriter"/>
              </a:rPr>
              <a:t>King Henry Notes</a:t>
            </a: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You may choose the </a:t>
            </a:r>
            <a:r>
              <a:rPr b="1" lang="en-US" sz="3200" spc="-1" strike="noStrike">
                <a:solidFill>
                  <a:srgbClr val="ff7518"/>
                </a:solidFill>
                <a:latin typeface="American Typewriter"/>
              </a:rPr>
              <a:t>King Henry Staircase</a:t>
            </a: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You may also choose to make a </a:t>
            </a:r>
            <a:r>
              <a:rPr b="1" lang="en-US" sz="3200" spc="-1" strike="noStrike">
                <a:solidFill>
                  <a:srgbClr val="ff7518"/>
                </a:solidFill>
                <a:latin typeface="American Typewriter"/>
              </a:rPr>
              <a:t>King Henry Slider</a:t>
            </a: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Examples #5-9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(5) 35 mm = ____ 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(6) 14,443 L = ____ k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(7) 0.00056 kg = ____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(8)35.4 L = ____ 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(9)16 mm = ____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One last caution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429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Be careful NO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merican Typewriter"/>
              </a:rPr>
              <a:t>to count the spot  you start from, where you put your pencil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18bb"/>
                </a:solidFill>
                <a:latin typeface="American Typewriter"/>
              </a:rPr>
              <a:t>    </a:t>
            </a:r>
            <a:r>
              <a:rPr b="1" lang="en-US" sz="2800" spc="-1" strike="noStrike">
                <a:solidFill>
                  <a:srgbClr val="5918bb"/>
                </a:solidFill>
                <a:latin typeface="American Typewriter"/>
              </a:rPr>
              <a:t>Only cou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18bb"/>
                </a:solidFill>
                <a:latin typeface="American Typewriter"/>
              </a:rPr>
              <a:t>      </a:t>
            </a:r>
            <a:r>
              <a:rPr b="1" lang="en-US" sz="2800" spc="-1" strike="noStrike">
                <a:solidFill>
                  <a:srgbClr val="5918bb"/>
                </a:solidFill>
                <a:latin typeface="American Typewriter"/>
              </a:rPr>
              <a:t>the jump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194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3878640" y="403200"/>
            <a:ext cx="218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merican Typewriter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4329720" y="2895480"/>
            <a:ext cx="426492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18bb"/>
                </a:solidFill>
                <a:latin typeface="American Typewriter"/>
              </a:rPr>
              <a:t>You may choose to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400" spc="-1" strike="noStrike">
                <a:solidFill>
                  <a:srgbClr val="5918bb"/>
                </a:solidFill>
                <a:latin typeface="American Typewriter"/>
              </a:rPr>
              <a:t>as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18bb"/>
                </a:solidFill>
                <a:latin typeface="American Typewriter"/>
              </a:rPr>
              <a:t>your teacher for a copy of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18"/>
                </a:solidFill>
                <a:latin typeface="American Typewriter"/>
              </a:rPr>
              <a:t>(1) King Henry Notes 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18"/>
                </a:solidFill>
                <a:latin typeface="American Typewriter"/>
              </a:rPr>
              <a:t>(2) King Henry Staircase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518"/>
                </a:solidFill>
                <a:latin typeface="American Typewriter"/>
              </a:rPr>
              <a:t>(3) King Henry Sli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5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619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647960" y="2666880"/>
            <a:ext cx="3429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18bb"/>
                </a:solidFill>
                <a:latin typeface="American Typewriter"/>
              </a:rPr>
              <a:t>Is used by scientists all over the worl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031760" y="228600"/>
            <a:ext cx="649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7518"/>
                </a:solidFill>
                <a:latin typeface="American Typewriter"/>
              </a:rPr>
              <a:t>The Metric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927080" y="3098880"/>
            <a:ext cx="249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251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7518"/>
                </a:solidFill>
                <a:latin typeface="American Typewriter"/>
              </a:rPr>
              <a:t>Do you remember…</a:t>
            </a:r>
            <a:endParaRPr b="0" lang="en-US" sz="60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2895480"/>
            <a:ext cx="2514600" cy="1828800"/>
          </a:xfrm>
          <a:prstGeom prst="rect">
            <a:avLst/>
          </a:prstGeom>
          <a:solidFill>
            <a:srgbClr val="ff9900">
              <a:alpha val="2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18bb"/>
                </a:solidFill>
                <a:latin typeface="American Typewriter"/>
              </a:rPr>
              <a:t>  </a:t>
            </a:r>
            <a:r>
              <a:rPr b="1" lang="en-US" sz="4400" spc="-1" strike="noStrike">
                <a:solidFill>
                  <a:srgbClr val="5918bb"/>
                </a:solidFill>
                <a:latin typeface="American Typewriter"/>
              </a:rPr>
              <a:t>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18bb"/>
                </a:solidFill>
                <a:latin typeface="American Typewriter"/>
              </a:rPr>
              <a:t>Hen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3619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The pneumonic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560" y="1980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King Henry Died Unexpected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Drinking Chocolate Mi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343400" y="4038480"/>
            <a:ext cx="35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Memorize          thi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27306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You must also know…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5029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  …</a:t>
            </a: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how to convert within the Metric System. </a:t>
            </a:r>
            <a:r>
              <a:rPr b="1" lang="en-US" sz="3200" spc="-1" strike="noStrike">
                <a:solidFill>
                  <a:srgbClr val="ff7518"/>
                </a:solidFill>
                <a:latin typeface="American Typewriter"/>
              </a:rPr>
              <a:t>Here’s a good dev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On your paper draw a line and add 7 tick mar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merican Typewrite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1219320" y="5410080"/>
            <a:ext cx="6324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4114800" y="480060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5181480" y="5029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6324480" y="5029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7467480" y="5029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3124080" y="5029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2133720" y="5029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1219320" y="50292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Next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Above the tick marks write the abbreviations for the King Henry pneumon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341360" y="4156200"/>
            <a:ext cx="5639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4084560" y="354636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5075280" y="37749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7"/>
          <p:cNvSpPr/>
          <p:nvPr/>
        </p:nvSpPr>
        <p:spPr>
          <a:xfrm>
            <a:off x="5989680" y="37749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6980400" y="37749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3246480" y="37749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2255760" y="37749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1"/>
          <p:cNvSpPr/>
          <p:nvPr/>
        </p:nvSpPr>
        <p:spPr>
          <a:xfrm>
            <a:off x="1341360" y="37749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1058040" y="3033720"/>
            <a:ext cx="644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k          h         d       u          d         c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1228680" y="6095880"/>
            <a:ext cx="68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Write the units in the middle </a:t>
            </a:r>
            <a:r>
              <a:rPr b="1" lang="en-US" sz="2400" spc="-1" strike="noStrike">
                <a:solidFill>
                  <a:srgbClr val="5918bb"/>
                </a:solidFill>
                <a:latin typeface="American Typewriter"/>
              </a:rPr>
              <a:t>under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the “U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3885480" y="4724280"/>
            <a:ext cx="4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Let’s add the meter line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417680" y="392760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4160880" y="331776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5151600" y="35463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6066000" y="35463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7056360" y="35463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322800" y="35463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2332080" y="35463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>
            <a:off x="1417680" y="354636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978480" y="2895480"/>
            <a:ext cx="66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u          d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189080" y="46134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km     hm     dam    m        dm      cm      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7518"/>
                </a:solidFill>
                <a:latin typeface="American Typewriter"/>
              </a:rPr>
              <a:t>Let’s add the liter line:</a:t>
            </a:r>
            <a:endParaRPr b="0" lang="en-US" sz="4400" spc="-1" strike="noStrike">
              <a:solidFill>
                <a:srgbClr val="ff7518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1447920" y="3429000"/>
            <a:ext cx="5638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191120" y="2819520"/>
            <a:ext cx="0" cy="1218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518148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09588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708660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335268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236232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1447920" y="3048120"/>
            <a:ext cx="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1048680" y="2424240"/>
            <a:ext cx="69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         h          d          u          d          c          m</a:t>
            </a: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1219320" y="411480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km     hm       dam   m        dm     cm      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518"/>
                </a:solidFill>
                <a:latin typeface="American Typewriter"/>
              </a:rPr>
              <a:t>kL       hL        daL    L          dL     cL         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merican Typewriter"/>
              </a:rPr>
              <a:t>Deca can also be dk or 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5"/>
          <p:cNvSpPr/>
          <p:nvPr/>
        </p:nvSpPr>
        <p:spPr>
          <a:xfrm flipH="1" flipV="1">
            <a:off x="3581280" y="4876920"/>
            <a:ext cx="76320" cy="76176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3:25:53Z</dcterms:created>
  <dc:creator>Eric Knapp</dc:creator>
  <dc:description/>
  <dc:language>en-US</dc:language>
  <cp:lastModifiedBy>test</cp:lastModifiedBy>
  <dcterms:modified xsi:type="dcterms:W3CDTF">2014-09-22T19:13:08Z</dcterms:modified>
  <cp:revision>119</cp:revision>
  <dc:subject/>
  <dc:title>METRIC CONVERSION</dc:title>
</cp:coreProperties>
</file>